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AA3-22E5-450A-AF3C-0DB1B169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261-D1A4-4DDA-9596-CC0850B2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5BF-BB04-40E4-A166-F216922F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55F-36E5-436A-A4EF-6593530D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891-91C4-43CD-8F9B-CDBB0BE4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5F6-D281-4D97-9648-5F33E09B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043-9979-43D1-994C-9388637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EC0-38E1-49C2-A387-FAB61B6D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3DA-2E01-439E-AD09-C77287EE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115-323E-4FD6-84F7-40C5D9E3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AB3-0228-42F4-9EF8-0C6E1D2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231-8612-4DE5-87FB-8AE8F0F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3C3-79D7-4A3C-ACEE-82CB97A8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ehillcollege.typepad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341360"/>
            <a:ext cx="77752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sheets on the desks to work out how to say all the countries in the European Union in Spanish- write the English next to the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79640" y="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 Uni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 Europea (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17680"/>
            <a:ext cx="835344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oy a favor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in favour of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estoy a favor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not in favou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nso que 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hink that i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o que es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elieve that i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o que es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fear that i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o posi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hing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o nega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hing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o perjud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hing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benefic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W DO YOU THINK WE SAY “TO BENEFIT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 s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ued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y ca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baj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xtranj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uanto 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ith regard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3716280"/>
            <a:ext cx="2808360" cy="188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voc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pairs, answer the questions- 1 of the pair must stay seated with the questions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36640"/>
            <a:ext cx="7848720" cy="508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gehillcollege.typepa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ersonal descriptions are now on the blog as Guess-Who style descriptions- leave 5 comments working out who each description is b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finished by Thursday 3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836640"/>
            <a:ext cx="7848720" cy="2684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of 50 words, typed, on your opinions of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19:46Z</dcterms:created>
  <dc:creator>Owner1</dc:creator>
  <dc:description/>
  <dc:language>en-US</dc:language>
  <cp:lastModifiedBy>Owner1</cp:lastModifiedBy>
  <dcterms:modified xsi:type="dcterms:W3CDTF">2008-10-28T16:35:57Z</dcterms:modified>
  <cp:revision>5</cp:revision>
  <dc:subject/>
  <dc:title>Slide 1</dc:title>
</cp:coreProperties>
</file>